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78E8-CC1B-48E6-B19B-146DE5129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729F-E9D8-4E58-B036-75920456E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9973-1F26-4BDC-92F3-ED484F29C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8A2E-1E46-4E5B-9637-D939BEDAD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543B-74F0-4305-A559-45E828CFB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D8F4-E6C0-4319-AF57-E3BB7F988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9617-44DC-411C-9776-B06D7D399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2038-3132-4A29-9242-22A46F62F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47BC-CB39-4AF1-97DE-E54F7AEA3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F84A-DCC3-4156-B252-2E8E5B46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1AAB-D51B-4D85-A2D6-59D1E5833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ABD4-F760-496A-9940-95842B23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1B501-8797-42C1-866A-7C2572E3300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-303120" y="1557360"/>
            <a:ext cx="9905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TIRLING  EX  PRESIDENTS                        EX  PRESIDENTS                           EX  PRESIDENTS  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8"/>
          <p:cNvSpPr/>
          <p:nvPr/>
        </p:nvSpPr>
        <p:spPr>
          <a:xfrm>
            <a:off x="0" y="314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4"/>
          <p:cNvSpPr/>
          <p:nvPr/>
        </p:nvSpPr>
        <p:spPr>
          <a:xfrm>
            <a:off x="0" y="479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Box 33"/>
          <p:cNvSpPr/>
          <p:nvPr/>
        </p:nvSpPr>
        <p:spPr>
          <a:xfrm>
            <a:off x="3728880" y="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9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5" descr="Stirling Ex Presidents 2.jpg"/>
          <p:cNvPicPr/>
          <p:nvPr/>
        </p:nvPicPr>
        <p:blipFill>
          <a:blip r:embed="rId1"/>
          <a:stretch/>
        </p:blipFill>
        <p:spPr>
          <a:xfrm>
            <a:off x="272880" y="333360"/>
            <a:ext cx="1157400" cy="1266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6" descr="Stirling Ex Presidents 3.JPG"/>
          <p:cNvPicPr/>
          <p:nvPr/>
        </p:nvPicPr>
        <p:blipFill>
          <a:blip r:embed="rId2"/>
          <a:stretch/>
        </p:blipFill>
        <p:spPr>
          <a:xfrm>
            <a:off x="2000160" y="549360"/>
            <a:ext cx="1041480" cy="1046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7" descr="Stirling Ex Pressidents 50th.JPG"/>
          <p:cNvPicPr/>
          <p:nvPr/>
        </p:nvPicPr>
        <p:blipFill>
          <a:blip r:embed="rId3"/>
          <a:stretch/>
        </p:blipFill>
        <p:spPr>
          <a:xfrm>
            <a:off x="3513240" y="333360"/>
            <a:ext cx="1225440" cy="12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3T08:29:43Z</dcterms:created>
  <dc:creator>HP authorized customer</dc:creator>
  <dc:description/>
  <dc:language>en-US</dc:language>
  <cp:lastModifiedBy>John</cp:lastModifiedBy>
  <dcterms:modified xsi:type="dcterms:W3CDTF">2011-12-23T11:10:24Z</dcterms:modified>
  <cp:revision>30</cp:revision>
  <dc:subject/>
  <dc:title>PowerPoint Presentation</dc:title>
</cp:coreProperties>
</file>